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8ED-F99C-4514-954D-897435CF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AF5-B03B-42BA-8EA4-5B48724A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D25A8-D1D7-4799-8723-8C1818F9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12BE2-62B6-467B-A80E-A501F04B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9212C-47C2-47C8-B59A-FBB098D7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AA5EC-6ABB-4C94-A4D1-C87A6A87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D04F0-3D3C-4ECC-8097-04042DA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53FE2-5A27-45C5-A877-44035222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D4E11-9D52-4B37-88EB-328F7A5C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E7E24-B19F-4467-A558-E1D2B044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C69D8-9206-45A5-AE42-1EE381E7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AC94C-8A94-49CE-9A17-9D861AD1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596-A630-460B-9A55-43337C4C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B9454-358F-447C-A036-AD26C4BF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1A874-CB44-4A3C-A8DC-AC8133C1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C5680-3D0E-4972-BBF6-D287E0D8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37CE3-43A0-45FC-B565-AF39CCA8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C6BE6-2309-4854-95F3-0B774B88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5797E-57DC-41B5-980D-6B3A59EF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7366A-8A01-4E8E-B4CC-77E9FEB1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A0C43-D537-49EC-A615-46CDAFC9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50A2C-C11F-4CAD-87C3-E434D350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22BC6-54D0-41FA-8D53-B93AADA1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318-FBDC-4E8B-A611-0BA483F7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D4E0C-905A-47A9-9E35-22FFD32E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07613-0E92-4076-A1EE-D72A38A2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51C56-7B29-431A-932C-888AB9B7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DF5C9-F475-47DA-9907-717633CF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78334-3092-430C-A6C3-6B2D6EA1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B54B1-DB12-4493-AAA6-EB810101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C8A03-4FE6-4810-900E-A25EF185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8A933-F0EA-4471-8233-776A69BF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2EBA0-0F7B-4080-800F-12B94188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A0450-7BA3-482B-BB35-C36ABDA7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8236-E9A2-4C06-8D46-DA1E5F4D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2BA33-3947-47F9-86F3-75E725C6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F1954-E1F4-44D5-B184-4058667D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DB000-D7E6-40FA-968E-4A6E1A25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83FFC-9FDC-4EF5-8B47-04010A11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F56B8-319A-4EF8-91FC-3F5835DB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F21C0-16E7-4FFD-BEF1-71394293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294F9-4F19-4820-A9C8-6077D1A3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31249-A232-4D45-AC1E-861E7629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C0A01-B40D-4AC3-8E97-1924388B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85ADC-5D68-435A-98B0-9B4F3041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2692-CD9D-4330-9D1E-C056E3DB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F35F5-FBEA-4352-87A6-B74DEE3D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A3411-55B8-4533-BAD4-63F68431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7BD5A-4EA7-4A1F-9FD5-31BB92BD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5FF62-B069-4448-9762-FC6E00E5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93050-87CD-4A98-A2E1-E7614BEF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86CC6-3A4E-464E-B29B-75CCA23A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EFAC0-94EB-4A05-A11C-8462C4A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5B884-B71E-4B64-93F6-C5CCA61F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68A1C-A732-45E0-AF11-446177B6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6D8F9-0728-491A-905C-A54CFD1B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B60B-98E9-452C-8931-D0739B42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7B17C-9167-40D4-A0B9-A533FD1C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1A804-EADB-4F34-AE20-A72CEDE0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92638-2B73-451C-90F4-5E52543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51FA9-FF89-4814-9FE1-45F2AED1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4F0AD-A421-49F6-A290-8C89ADCE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7C1C6-BF1A-4058-8E8B-926F673E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7BDA7-52F3-400B-B21C-3491D5EC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2807B-A034-4F10-8D58-C52E6CA3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1F426-7786-4FC9-ACB5-FB46FEC6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687EA-7C2B-4968-92F5-810EB4B3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FA47-B7B9-419E-B989-79879FC9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C87B9-5D7B-4506-B94E-9A89B41D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53971-84F9-4AFB-9B6B-6443159D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77B84-C12F-404A-A3FE-6DA2951F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198F9-E84B-4838-B11A-2EAAA419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3E348-F55E-44DD-84EB-EC137C5D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BAB84-095D-4965-B787-2A5BD8DE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9F233-72BF-4D85-861B-3983AB9F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1AD0F-CA02-48E0-A1A1-73D5E12E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A60EF-5572-4018-ADB7-32E99F01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AE4E4-DBE0-4975-B42C-4C6CA538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91D5-C3A0-47E0-A643-B5995977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E3A24-512F-4D46-BFBA-3B88C6D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CBDF7-E877-4C6B-9A1C-D6425CF9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6C25A-8B41-4A4F-B799-D9DC7630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5057D-A839-4E52-A052-375F62AD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CB377-FFF1-444C-B9AD-B903834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06250-BE39-4934-8019-CE63D759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B74A3-D9AA-438E-B8C3-BD7F6C04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6A449-A006-4DDF-B899-C340C32B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8C839E-4A45-499E-A89C-BE6981E9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548B0-4AF4-499B-826E-89F28EE2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898A-3310-49AD-82AF-8ADB939D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CA3D4-36DC-4BE3-9814-6913AEF5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101B1-0443-4120-9C83-6928ECE5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565E6-4959-47B5-B964-CDB2CA1E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50F02-E4EA-4908-B0CF-12B98292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C95C0-6467-48CC-9B9F-7D27B95B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62DEA-87B2-4CF1-814C-849C2F9B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83DFC8-0719-43D6-9D59-3AEC4DDA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E7246-DDA9-46FE-9748-7F2265DE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1686E-0286-4732-AF8C-4103F398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1662C-5694-4B5E-BBFA-DD03B3E3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0859-39BD-4794-84FA-CDC72BBC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F42020-FE0D-4DF4-A058-AD117F36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1B821-02FF-4E34-9BDD-46576C03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D2288-CCEA-4216-ACD3-CD2027E3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C213A-A033-4461-BF1D-9706F327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FBE633-93E7-48F7-9939-A9DCF062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8A054-7239-43EF-A93E-0EF99110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98679-A152-462F-B746-AD60F66D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F3F5F-C885-4E87-9151-7EAA78FA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A0158-04DA-490E-9568-67A39982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9E7971-740F-4B38-B0FD-3FC8AA3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BDA-5B5B-4458-933B-B32ACBF2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01BF-C72D-4D65-B28C-1FDD7C8F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62300-4196-42F5-B3F9-7E7E142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C784B-B9C1-4BF4-A231-785DBC09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F0B258-7785-4297-BD7F-E5F59159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C364A-7618-42E2-A2A3-35782366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5FBB8D-67E7-478C-98B0-CAA7D113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78B2F-E3F0-4985-9D8F-FDD34E32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439EE9-B866-400B-B5AA-935D86D1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838C8-C4B8-4F04-8B59-13BBF832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08F9B-865A-4684-9042-D56B3DB6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C04CD-505B-4823-BEFD-F995E78B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FD01-6E94-467E-AE98-3EB24AEC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FE55D-9EB7-458E-A473-2C0F4023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48734-851C-4838-B758-B073697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9C66D5-352C-451A-968A-35DB508A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A69776-4E7B-42DD-800F-96F398C3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6B7933-5E83-4BC4-B774-148E7E03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4CFC7-19F3-4908-9A2D-77142A0F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2842FA-9F3D-48D1-B199-357FA957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47DC97-438A-4253-9FFD-62869C4A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773B15-D56A-4599-A791-366E94A0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82A4AB-FFE3-4C0D-8EBD-B403802C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1514-0C80-408A-BF43-DB39EC15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71A705-0593-4D1D-BA99-FD23C489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532928-7D01-4F49-95B2-F4DCEEFD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BC73F-0729-4C76-B164-3FDC66A6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54710-6F0F-4432-93E1-19C15A8A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A0E41-D18C-4F8A-9EDB-D77B9A6F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57DB7-D022-4503-9719-1385D30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B1EE1C-B97D-4EEF-A26D-6EADBE26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0F6A8D-FF24-497A-B722-6028FDF8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135E52-A13C-4DA7-AC39-363B3F2B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D1F3B-DA34-411E-9802-1D39AB21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D610-8535-434B-8BD9-FFEB9F36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2082BE-48CB-455F-8AF8-C8D828A3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6D9251-B846-439F-BC71-6FC66EBD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D73508-5B5E-4ACA-A6C8-2FE757D3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20294-20D6-4B05-94EB-8DD1DFB1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A734C-6B50-40D4-89E0-F0F114BE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18E80-D740-41E3-835E-760D1EA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5FA0C-B63E-400F-BCED-3BAD7C0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7A1308-EC6A-4BE4-824D-938C88D5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CED8C2-4434-4FDB-B3AE-B6E839BC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4F2B3-7B29-40E3-8446-27B67CF9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3E56-5C8B-410C-92A3-1E449F31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6785B-42B0-4EA2-B1BD-7246D1E1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BC6C0-6468-41F1-A354-1572156A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2AF696-63C6-4219-AC73-E5D8E077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0AD2FB-A251-4C00-99C9-F45ABED2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B37B6-F6B8-4D9D-B468-386E367D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89F067-30E1-42C1-B876-5E5EC284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70230A-51E7-4B8D-BEBC-B3A345B0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96F62F-D517-45DC-8808-E7C369E6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A7EE5C-EBBD-4853-AF49-CD36BE03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528F43-B9B2-46F9-9B95-4DE00578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4FEA-E4BB-4173-9F11-7C9106D0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7B228-E9C4-4128-AB16-EFDCA086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355CC0-C86B-44B5-A013-C560ED80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8BC50D-5EA2-4717-AB80-4C1431D8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BEE6A4-88D0-4A03-8527-DCAFC75E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96DFC7-265A-4F49-9901-DA4E0EFF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AB9528-6A56-4B25-8213-9553BA6B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0E9704-6B7F-4115-8815-F1C69D58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00798-C455-4D4B-B1A4-AC6A53C9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3BDB45-E0F9-480F-8FFF-7E2A166D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B198B2-10B9-4892-BF44-7B86C0E3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47BE-4D79-46F4-B6A8-7F5B6D61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4475F1-8EA6-442E-9AA2-1E1669B2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02BA9C-9676-401D-ACE6-BCC7BCCD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926BCA-86A1-4CD6-B6EB-61E37916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C5982E-4BF1-40E6-8BA4-67F7B922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12F20B-7AF1-4F9C-B9AF-4FD9BC95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91A31D-61C9-484E-B693-4FD4ACEB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3C3EC3-C541-46EE-A5D6-DBD4E642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93BEDB-277F-4ABB-A7F0-198F3891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3FC753-80CC-41F5-BAB8-B0AC90AE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4298EE-81EF-45C3-B22B-E826B513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B5A4-91BA-4729-974E-8C8333E0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1AE05B-45E4-4F4F-A06A-E260E7FF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5A665E-5D24-4679-927A-53B32D2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AA2AD0-AE81-4049-9957-3D988587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6B43B5-3F97-4F5A-ADE1-84EB20C3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52DE03-6A28-4555-9CE4-684B4B1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CFDB49-7384-4A4F-9B92-DA42E7AC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E5EF56-6807-4488-9839-8BAE0FC6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F6B0-A5EF-40BB-B872-99E9F652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88F6-53B3-4DDD-B8B4-16B77D13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EA8-1CD7-48D6-932A-951A5021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70D0-E2F6-46C9-99BE-426BDB04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9233-0BF4-40DB-9FE5-1F77399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3CEB-FD94-4C99-9871-261EC52B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7682-1513-4EE2-B436-1FA15EA9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C28E-D681-4470-958D-8C96D305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63C03-3C43-4324-9DFA-DA0C3316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E5E8-A47D-4D90-9CDB-CA724C67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BA85-56BC-40E9-A8A0-9A4A22A2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054F-0A75-4992-85AA-BF84C122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5234C-1647-4350-95A4-74058FA9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B12-742B-40CE-A496-EBE6F7E8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23B1-6143-42BD-915E-1EF236EE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75BC-6AB3-40EF-84D8-CD18B126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F41D3-D57D-4483-8C9E-9FB60E4C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A93F4-F655-49C8-B044-1A18FC18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60A1-D534-4DE8-B7AC-138A137F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498D6-CF10-4C34-9800-1B2F8D28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9E87F-7AC5-49A3-A888-E6E08D08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7A6F0-8E02-4973-94B3-63858078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D179-666D-4807-B82F-382F4272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21F25-8114-4510-9022-88092454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E2E-811C-49AE-BBB6-E34CD442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98EAE-D936-4409-86E5-97024C1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97A4E-886A-4C04-AF42-9C82F33C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C35C5-3155-4FA2-9B65-A7E026E6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01EAB-1891-4259-AD90-FEF33E81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29481-D086-4333-BF07-66FA7C23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E45F5-2FC3-4B6E-9D9F-1987CFE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77724-6A61-46FC-9E9A-F2A27A1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5A5D6-E90B-4275-B0D9-4EA1A3D6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FADCA-74D4-4548-92CA-B4DB9D74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CFF4-5048-480D-B975-E1575CF8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839-A30A-4888-A5D6-E7464FB8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A020A-5026-46D7-93C1-0EA68C1B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4C997-686C-4A14-B657-39677A8D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7E3E9-7DE4-451F-9375-1286110D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C84F-19C7-4A2F-A7A7-2E3CBCC0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D8A74-07E2-45F8-BE35-E60AD855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4B6C9-3CC6-49C4-AA0F-FEFD0CF8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C8F12-B853-4943-B6FD-81B4E121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1C3F7-84D7-4385-8027-9E497C69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F016F-CB89-41FA-8180-CB699CCA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AEA89-FACA-4B69-A12D-761AAFEB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7E6-2A66-4C54-84A1-0D79F25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1B7A1-711A-49D6-A44F-1DBABCEC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F23E6-36D0-4560-B8AA-F9C073EE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B3637-07CE-46B5-8348-088A1E84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06B05-E37D-43D2-8614-B81BF1CB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13173-5E07-40C6-8716-0855889D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6A19A-0562-445D-BCA7-21389891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A0C46-A3B4-4FA9-ACD2-1B1950BA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50912-CA3F-4061-BB31-0A8BC315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DF52-143B-4E9D-9DEE-7A37298A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7FF29-E0EA-42AD-A5ED-C780BEC8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B4A-02FE-46C8-9C9D-33975FCF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745DC-3DEF-42D7-9EAB-64FBACDE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D289D-9BFA-4A1B-8EEF-65870E78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15C02-D580-47A9-8492-3069CDAA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DD9B3-36E1-4208-809C-CFB49163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E0DFC-0040-41C4-85D8-B589182E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3B2DE-0EB7-424A-9116-5E584DB1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1F8D6-E6C3-4FB9-9F80-E3316D2D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38722-ED1F-4D6B-A5EF-62412084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FE412-739A-4E1E-BFA9-5B142987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2757B-804D-4481-8590-27E8FBDA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34E-D158-4A50-80B3-1F2F328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9BA18-F863-46D5-9146-9A4D0F30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F166A-CD7F-4ED3-B607-E6EC5B38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FDDE3-2A39-44C0-B7B7-C87EAC9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E286F-A56B-43EC-91E6-E06641DB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6700D-0FF1-4F84-A992-EA95EDC1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94CD3-DBF7-4643-8BC2-7A245DC6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7B49A-B6D5-49B0-B23A-802C49E8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E9117-9F9D-4300-911B-6A0EA1C3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65B4A-830B-4B4A-9E43-C61A2DE4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82E9D-E973-4791-AC22-D439B4E8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93AE-0858-4108-AD1F-453BD49E31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69CC-5964-48A2-8A36-8AD64355BA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6815-A41A-41B8-A996-E1ADD7CB7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D8FE-5886-4CEE-AA1F-A0874D501E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013B-ACA8-4482-AB94-A6FB547C5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90E2-2524-489E-8A61-E2384DF57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E204-002A-4719-A687-43D2EAA1C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252F-C260-4820-9515-536064330B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FB33-3AB1-453A-94D1-E5D7207A2E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8165-5682-469C-9489-34F4A86B9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7EF8-9C99-4890-98D1-F8B87E3DF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9DCB-0B28-4D10-A1CA-3B414B210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64D0-C33D-4ED3-B7DF-17414C006F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8D64-919E-487B-85FA-76525259DD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72CC-DE21-4095-8DE5-53381BB0C1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D2BC-084D-4B8D-8EF1-A984C521A0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306C-9224-4145-B141-E57527F00E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C824-3A1C-4601-9DD6-6CD20DE8C5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2EFE-348F-4EDB-A304-6E2579119C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6CA6-5886-4D06-8229-1CB8480122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6BA0-DE60-4308-8574-8F1827358D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367A-3F52-4377-BF3B-9C66DE7520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E872-81A1-452E-AA80-0F9561CC87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1480-F37D-496B-B1E5-A8550EDF95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AEF6-A341-4472-AC76-15FF20216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B093-FB89-43F1-AC29-9439BAC62A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9370-330A-41E7-915D-3A2BDCFD8B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5999-1662-4236-8072-B8DB45BD39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6132-E79E-4E38-A7EF-76DB0E687A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F70B-5A02-419E-94F3-2A8AABED2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C3CD-F721-4D52-881F-877E1FCCEE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1CB4-BC67-41A3-B45F-0A185DDD56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5132-F8F2-44AD-976C-C044A20357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1EEA-F19A-4EEA-8CFA-9A2C21ABE7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C579-724C-422F-A8A0-B536140349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AA3B-AB84-493B-80A2-A866FB0337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E8D4-3807-47E4-B816-C32FA1EF5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2BF4-F08A-4C2F-9CC1-69E2F4ABFB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5609-2FCD-4119-B949-2E05D96880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055C-FCD6-4031-A1DA-293652B4A2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8D58-8A52-4BE3-9A0B-0AE3FCFA2E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411C-6C3E-4575-AA5B-07648E08B0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757520" y="2967120"/>
            <a:ext cx="56289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14200" y="819000"/>
            <a:ext cx="2200320" cy="3333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3" descr=""/>
          <p:cNvPicPr/>
          <p:nvPr/>
        </p:nvPicPr>
        <p:blipFill>
          <a:blip r:embed="rId2"/>
          <a:stretch/>
        </p:blipFill>
        <p:spPr>
          <a:xfrm>
            <a:off x="60480" y="1409760"/>
            <a:ext cx="9024840" cy="38196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360360" cy="2458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24000" y="2727360"/>
            <a:ext cx="360360" cy="2458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24000" y="3583080"/>
            <a:ext cx="360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647640" y="2371680"/>
            <a:ext cx="7848720" cy="21146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60360" cy="2458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360360" cy="2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476280" y="843120"/>
            <a:ext cx="8191440" cy="55512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3492360" y="1322280"/>
            <a:ext cx="719280" cy="2462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3419640" y="1763640"/>
            <a:ext cx="718920" cy="2462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2050920" y="2627280"/>
            <a:ext cx="719280" cy="2462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2124000" y="3054240"/>
            <a:ext cx="1511280" cy="2462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5724360" y="3467160"/>
            <a:ext cx="1295640" cy="2458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7"/>
          <a:stretch/>
        </p:blipFill>
        <p:spPr>
          <a:xfrm>
            <a:off x="1979640" y="4356000"/>
            <a:ext cx="1295280" cy="2462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8"/>
          <a:stretch/>
        </p:blipFill>
        <p:spPr>
          <a:xfrm>
            <a:off x="3924360" y="4778280"/>
            <a:ext cx="1008000" cy="2462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9"/>
          <a:stretch/>
        </p:blipFill>
        <p:spPr>
          <a:xfrm>
            <a:off x="2987640" y="5219640"/>
            <a:ext cx="1008000" cy="246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0"/>
          <a:stretch/>
        </p:blipFill>
        <p:spPr>
          <a:xfrm>
            <a:off x="2556000" y="5651640"/>
            <a:ext cx="1008000" cy="2458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1"/>
          <a:stretch/>
        </p:blipFill>
        <p:spPr>
          <a:xfrm>
            <a:off x="3564000" y="6083280"/>
            <a:ext cx="1008000" cy="2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190440" y="1014480"/>
            <a:ext cx="8763120" cy="48290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1042920" y="1925640"/>
            <a:ext cx="1657440" cy="2462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1547640" y="2809800"/>
            <a:ext cx="792360" cy="2462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3348000" y="2800440"/>
            <a:ext cx="2087640" cy="2458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6877080" y="2790720"/>
            <a:ext cx="792000" cy="2462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2268360" y="3664080"/>
            <a:ext cx="1872000" cy="2458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7"/>
          <a:stretch/>
        </p:blipFill>
        <p:spPr>
          <a:xfrm>
            <a:off x="1187280" y="4518000"/>
            <a:ext cx="792360" cy="2462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8"/>
          <a:stretch/>
        </p:blipFill>
        <p:spPr>
          <a:xfrm>
            <a:off x="2627280" y="4527720"/>
            <a:ext cx="2232000" cy="2458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9"/>
          <a:stretch/>
        </p:blipFill>
        <p:spPr>
          <a:xfrm>
            <a:off x="3276720" y="5383080"/>
            <a:ext cx="3166920" cy="2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4:4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